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5B0-58C8-4085-B904-87C684B7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96D-D15A-47C1-B1B8-BBAB20A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9AE-CFD5-473F-982F-54AF9742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17D-CB11-43F3-8C33-1A8BF6F2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90D-563D-4955-A412-D911A58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59C-2D00-42B2-AD2D-117504E8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57B-B5BB-4C70-B128-8CDBB6F4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928-6051-460D-95A0-1D2392BC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31C-9BA1-468C-8807-65A10F19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B5D-6F58-4800-91AB-4E9C07E7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F33-7A60-4D20-8602-C4709E7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DDD-7903-4A0C-985A-7C35FB7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1F8E-1B88-4BF2-AB32-8D0BA5F64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781680" cy="576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and J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657600" y="457200"/>
            <a:ext cx="472428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udi Arab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imag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pedi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s of the world of Saudi Arabia (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BCnew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828800" y="22860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ocation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is southwest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andforms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ast dry desert they have trouble wit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Water system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They do not have a water system they have trouble keeping water and is very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28800" y="228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The 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nd continu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il and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have Ironore, petroleum, Gold And 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0 Saudi Arabia was responsible for 42.1% of the worlds crude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animals in the des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 animals are the Dung beatle, the Camal the Egyptian Vultrue and more but to long to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lim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very hot and humid during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ights the temperature drop very cold to 0 degress cels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ters are very harsh and cold even worse then 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76520" y="380880"/>
            <a:ext cx="60958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limate and vegi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 king named Abdullah rules the country and is like a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 Qur’an is what they role there country by (like there la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Government tries to spread Islam as one of ther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King doesn’t have supreme rule cause they have other people with power like prime min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y only have one name on the ballet when vo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457200"/>
            <a:ext cx="4647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overnment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1900’s and 1940’s boundries were made between Jordan Iran and Ku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Abdul Aziz died in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ugust of 1990 Saddam Husseins forces invaided Kuw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ev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ound alot of oil and now they are the richest in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Econom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industrial country and mostly petroleum and oil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jor export is oil and makes up 90% of there export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urrency is riy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7 out of 100 male youth children between 15 and 24 are edu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tries national dance is called the Al Ardha “it’s a folk ritu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ulture is mostly Isl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ca and Medina “the holy plac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ray five times a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ress strictly to the Hij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forbidden to eat pork and drink alcoh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52480" y="304920"/>
            <a:ext cx="5715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ltur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laces to vis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historical site is Mecca and Me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ca,Riayadh,Habalah,Madain saleh cemitary are places visit in Saudi Arabi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53:27Z</dcterms:created>
  <dc:creator>jasoncthoman</dc:creator>
  <dc:description/>
  <dc:language>en-US</dc:language>
  <cp:lastModifiedBy>jasoncthoman</cp:lastModifiedBy>
  <dcterms:modified xsi:type="dcterms:W3CDTF">2009-02-24T14:39:55Z</dcterms:modified>
  <cp:revision>7</cp:revision>
  <dc:subject/>
  <dc:title>Slide 1</dc:title>
</cp:coreProperties>
</file>